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0D8-451D-444A-9566-69EAA1EE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8D2-CB18-4FAA-A09C-EE77E18C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900-1C1E-4F8A-AB5D-AD5E9F15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129-79B5-4775-95A0-97775365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6C4-3471-4023-B3A2-B29D80C9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85F-8983-497E-88AF-29584401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C3A-F642-4550-8E78-1938BA1E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E24-1B0B-4138-A002-79F39A57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443-0BF4-4A70-89CF-6DC68AEE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960-D67E-458B-B04E-14BD4319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8DA-0370-49ED-A493-07FC03D8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786-A5D2-46E9-A65C-1BFF2937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1818-C564-4B06-B67A-59CD4843A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Тип Губки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Тип 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Кишечнополостные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Речная губка бод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143080" y="1000080"/>
            <a:ext cx="47149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Тип Кишечнополос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85840" y="928440"/>
            <a:ext cx="43574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Кишечнополостные – это простейшие многоклеточные животные, предками которых являются колониальные формы гетеротрофных одноклеточных организмов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Все кишечнополостные  обитатели океанов, морей и пресных водоёмов. Их тело представлено слабо дифференцированными клетками, способными к поглощению пищи в во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>
            <a:lum contrast="32000"/>
          </a:blip>
          <a:stretch/>
        </p:blipFill>
        <p:spPr>
          <a:xfrm>
            <a:off x="4714920" y="928800"/>
            <a:ext cx="39355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580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Классификация Кишечнополос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4" descr=""/>
          <p:cNvPicPr/>
          <p:nvPr/>
        </p:nvPicPr>
        <p:blipFill>
          <a:blip r:embed="rId2"/>
          <a:stretch/>
        </p:blipFill>
        <p:spPr>
          <a:xfrm>
            <a:off x="334800" y="1450800"/>
            <a:ext cx="83822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272520"/>
            <a:ext cx="8001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Пресноводная ги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5072040"/>
            <a:ext cx="84297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Типичным представителем Класса Гидроидные явля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пресноводная гидра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, частый обитатель прудов и озё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571760" y="857160"/>
            <a:ext cx="57862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47577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Тело гидры имеет вид цилиндра длиной 1—2 см, нижняя часть которого сужается в стебелек или ножку. Основанием стебелька гидра прикрепляется к подводным предметам. На свободном  конце имеется возвышение, где располагается окруженное щупальцами ротовое отверстие. Рот ведет в пищеварительную полость, продолжение которой заходит и в щупальц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5638680" y="633240"/>
            <a:ext cx="30481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Строение гидры (в разрез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928800" y="785880"/>
            <a:ext cx="721512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214280"/>
            <a:ext cx="8186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дними из самых совершенных и высокоспециализированных клеток животных принято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трекательные клетки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ри раздражении чувствительного волоска происходит выстреливание нити, которое длиться всего 0,003 — 0,005 секунды. При этом стрекательная нить вместе со стилетом могут пробивать даже панцирь мелких ракообразных. Одновременно в ранку через канал нити поступает ядовитое вещество, приводящее к разрушению тканей жертвы. Кроме ядовитых стрекательных клеток часто встречаются клейкие и «опутывающие» капсу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4" descr="image004.jpg"/>
          <p:cNvPicPr/>
          <p:nvPr/>
        </p:nvPicPr>
        <p:blipFill>
          <a:blip r:embed="rId2"/>
          <a:stretch/>
        </p:blipFill>
        <p:spPr>
          <a:xfrm>
            <a:off x="2428920" y="500040"/>
            <a:ext cx="4763880" cy="5000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5840" y="5643360"/>
            <a:ext cx="88581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трекательная клетка в покое и после выстрел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72520"/>
            <a:ext cx="850104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Половое размножение ги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rcRect l="-1196" t="0" r="0" b="0"/>
          <a:stretch/>
        </p:blipFill>
        <p:spPr>
          <a:xfrm>
            <a:off x="428760" y="1214280"/>
            <a:ext cx="8246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Губ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785880"/>
            <a:ext cx="83296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Губки (Porifera)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– тип наиболее примитивных многоклеточных животных, лишённых общей симметрии тела. В связи с тем, что тела губок не дифференцируются на ткани, этот тип выделяется в отдельное подцарство. Функционально клетки губок слабо связаны между собо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ело губок состоит из двуслойной пористой стенки, окружающей центральную полость. Между слоями стенки находится студёнистая мезоглея, в которой содержатся клетки разного рода. Под действием жгутиковых клеток, выстилающих внутреннюю поверхность губок, вода со взвешенными пищевыми частицами закачивается через поры во внутреннюю полость. Здесь пища захватывается и внутриклеточно переваривается. Продукты метаболизма выходят вместе с водой наружу через широкое уст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1154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Гидрои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400" y="5285880"/>
            <a:ext cx="835812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ерхний ряд, слева направо: обыкновенная гидра, несравненная кунина (паразитирует на более крупной медузе), калифорнийская аллопора, коленчатая обелия. Нижний ряд, слева направо: огненный коралл, светящаяся кладонема, тихоокеанская порприта, краспедаку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928800" y="642960"/>
            <a:ext cx="73580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Сцифоидные меду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58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цифоидные (Scyphozoa), наоборот, выделяются свободноплавающими медузами, размеры которых колеблются от нескольких миллиметров до 2–3 м (цианея); щупальца цианеи вытягиваются в длину до 20 м. Полип развит слабо, иногда его нет совсем. Кишечная полость разделена неполными перегородками на камеры. Сцифомедузы живут несколько месяце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коло 200 видов в умеренных и тропических водах Мирового океана. Некоторые виды (корнероты, аурелия) употребляются в солёном виде в пищу. Многие медузы при прикосновении вызывают сильные покраснения и ожоги. Австралийская сцифомедуза хиродрофус может вызвать смертельные ожоги у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4642920"/>
            <a:ext cx="825804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Нервная система представляет собой сеть, образованную нервными клетками. У медуз имеются два рыхлых нервных кольца, расположенных около рта и по краю зонтика. Органы зрения (светочувствительные глазки) и равновесия (статоцисты) есть только у меду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500120" y="285840"/>
            <a:ext cx="607212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1548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Цикл размножения сцифоидных мед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000080" y="1000080"/>
            <a:ext cx="714384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614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Строение полипа сцифоидных мед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829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Другая характерная особенность кишечнополостных – это полиформизм. У большинства видов наблюдается чередование поколений: свободноплавающего (медузы) и прикреплённого к субстрату (полипа). Полип – это сидячая цилиндрическая форма, расширяющаяся к основанию тела, и сужающийся к вершине, окружённой щупа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rcRect l="15119" t="840" r="15119" b="0"/>
          <a:stretch/>
        </p:blipFill>
        <p:spPr>
          <a:xfrm>
            <a:off x="5429160" y="316080"/>
            <a:ext cx="332604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5804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Сцифомеду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50080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ерхний ряд, слева направо: атолла ван Хоффа, корнерот, медуза-кочан, ушастая медуза. Нижний ряд, слева направо: таинственная хризаора, молочная хризаора, гигантская цианея, фацеллофо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857160" y="928800"/>
            <a:ext cx="7429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17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урелия ушастая меду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4" descr="аурелия ушастая медуза.jpg"/>
          <p:cNvPicPr/>
          <p:nvPr/>
        </p:nvPicPr>
        <p:blipFill>
          <a:blip r:embed="rId2"/>
          <a:stretch/>
        </p:blipFill>
        <p:spPr>
          <a:xfrm>
            <a:off x="4071960" y="357120"/>
            <a:ext cx="44053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2614680" cy="18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едуза корнер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786120" y="357120"/>
            <a:ext cx="49291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1548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Цианея поля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214280" y="10717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97256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ианея полярная или львиная гр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785960" y="928800"/>
            <a:ext cx="564372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Строение тела гу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60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300816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Медуза морская 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643200" y="642960"/>
            <a:ext cx="49212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79009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Медуза небесный с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071800" y="114300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186000" cy="229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Физалия или португальский кора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rcRect l="4477" t="2874" r="2985" b="1916"/>
          <a:stretch/>
        </p:blipFill>
        <p:spPr>
          <a:xfrm>
            <a:off x="4286160" y="357120"/>
            <a:ext cx="385776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580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Коралловые поли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258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Коралловые полипы (Anthozoa) – колониальные (реже одиночные) морские организмы. Тело длиной от нескольких миллиметров до одного метра обладает шестилучевой или восьмилучевой симметрией. Из-за того, что оплодотворение у кораллов внутреннее, личинка планула развивается в кишечной полости полипа, образующего яйцеклетки. Стадия медузы отсутствует. Ротовое отверстие соединяется с кишечной полостью глоткой. У полипов одной колонии кишечная полость общая, и пища, добытая одним из полипов, становится достоянием всей колон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14560" y="272880"/>
            <a:ext cx="37861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Акти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3900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Некоторые бесскелетные актинии служат хорошим примером симбиоза. Они сосуществуют вместе с раками-отшельниками, живя на их раковинах. Рак питается остатками добычи актинии, а взамен переносит её с места на место – в более удачные для охоты места. Другая актиния симбиотирует с рыбой-клоуном. Яркая рыбка, невосприимчивая к яду щупалец, завлекает врагов, а актиния хватает их и поедает. Кое-что перепадает и клоун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rcRect l="3335" t="21838" r="5558" b="0"/>
          <a:stretch/>
        </p:blipFill>
        <p:spPr>
          <a:xfrm>
            <a:off x="4643280" y="1071720"/>
            <a:ext cx="41529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56760" y="121428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Некоторые колониальные полипы (например, мадрепоровые кораллы) окружают себя массивным известковым скелетом. Когда полип умирает, его скелет остаётся. Колонии полипов, разрастаясь в течение тысячелетий, образуют коралловые рифы и целые острова. Самый крупный из них – Большой Барьерный риф – тянется вдоль восточных берегов Австралии на 2300 км; его ширина составляет от 2 до 150 км. Рифы в местах своего распространения являются серьёзным препятствием для судоходства. Веточки кораллов используют как укра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8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Коралловые рифы представляют собой уникальные экосистемы, в которых находит приют огромное количество других животных: моллюсков, червей, иглокожих, рыб. В ледниковый период коралловые рифы окаймляли многие острова. Затем уровень моря начал подниматься, и полипы со средней скоростью сантиметр в год надстраивали свои рифы. Постепенно сам остров скрывался под водой, а на его месте образовалась мелководная лагуна, окружённая рифами. Ветер приносил на них семена растений. Затем появились животные, и остров превратился в коралловый атол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Коралловые поли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71680" y="1071720"/>
            <a:ext cx="81262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Коралловые поли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571680" y="1214280"/>
            <a:ext cx="801036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42960" y="857160"/>
            <a:ext cx="3747960" cy="4786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4714920" y="642960"/>
            <a:ext cx="3857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убки — неподвижные колониальные животные, состоящие из множества соединенных между собой особей. По внешнему виду губки поразительно напоминают растения. Они поселяются на различных подводных предметах (камнях, сваях, корягах и пр.), по которым стелются в виде корообразных наростов или в виде разветвленных куст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Строение гу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rcRect l="29073" t="0" r="0" b="0"/>
          <a:stretch/>
        </p:blipFill>
        <p:spPr>
          <a:xfrm>
            <a:off x="642960" y="857160"/>
            <a:ext cx="79041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келет губок развивается в мезоглее. Он состоит из фибриллярного белка коллагена или органического вещества спонгина и миллионов микроскопических игл (спикул), образованных кремнезёмом или углекислой известью. Строение скелета служит основным признаком классификации губок. Около 5000 видов губок, встречающихся преимущественно в морях от поверхности до глубины 8 км, разделяются на три класса: известковые губки (скелет из карбоната кальция), обыкновенные губки (скелет из одно- или четырёхосных игл кремнезёма, реже из спонгина), стеклянные или шестилучевые губки (кремнезёмный скелет из шестиосных игл). К обыкновенным губкам относятся более 95 % всех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Размножение гу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Большинство губок гермафроди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Размножение половое и бесполое. Почки, образующиеся на теле, как правило, не отделяются от материнского организма, что приводит к появлению колоний самой причудливой формы. В половом процессе сперматозоид оплодотворяет яйцеклетку; из яйца выходит личинка, некоторое время плавающая в воде, а затем прикрепляющаяся ко дну. Большинство губок живут от нескольких недель до двух лет; конская губка может жить до 50 лет и больше. У губок очень хорошо развита способность к регенерации тканей: даже если губку разрезать на куски, то из каждого кусочка через некоторое время вырастет новая губ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Различные типы гу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571680" y="1071720"/>
            <a:ext cx="8010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Различные типы гу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79293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05:46Z</dcterms:created>
  <dc:creator>Werevolf</dc:creator>
  <dc:description/>
  <dc:language>en-US</dc:language>
  <cp:lastModifiedBy>Сергей</cp:lastModifiedBy>
  <dcterms:modified xsi:type="dcterms:W3CDTF">2013-11-09T21:32:29Z</dcterms:modified>
  <cp:revision>32</cp:revision>
  <dc:subject/>
  <dc:title>Тип Кишечнополостные</dc:title>
</cp:coreProperties>
</file>