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FE9-6D22-4993-8E11-0C490E41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B62-B5BB-4B71-A072-7375321A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D64-3B7B-4126-ABB3-2EA31560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DC2-A34E-44A2-B466-81099F10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01D-F844-40DE-BD01-7BDF81BB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080-CA7A-444C-B07A-36BCED10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32C-AF15-41FC-9FFE-67FFB8C6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965-4821-4F7F-BEE4-38B52554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0A6-F409-4CB0-B213-90E6614E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0EE-2A24-4D56-B810-034DC53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DD2-F904-483B-8C17-EF5806D2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C5A-CD24-4D10-858C-6C95A99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E035-6CC7-4846-8C59-9386B0B6A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943600" cy="633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3280" y="620280"/>
            <a:ext cx="45007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ьчатые чер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1f00"/>
                </a:solidFill>
                <a:latin typeface="Arial Black"/>
              </a:rPr>
              <a:t>Пищеваритель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Пищев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335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Rectangle 5"/>
          <p:cNvSpPr/>
          <p:nvPr/>
        </p:nvSpPr>
        <p:spPr>
          <a:xfrm flipV="1" rot="10800000">
            <a:off x="455400" y="5333760"/>
            <a:ext cx="83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товое отверстие → глотка → пищевод → зоб → желудок → кишечник → анальное отвер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c1f00"/>
                </a:solidFill>
                <a:latin typeface="Arial Black"/>
              </a:rPr>
              <a:t>Кровеносная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Кровеносн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34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Rectangle 5"/>
          <p:cNvSpPr/>
          <p:nvPr/>
        </p:nvSpPr>
        <p:spPr>
          <a:xfrm>
            <a:off x="838080" y="518148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дольные с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ьцевые с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ерд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c1f00"/>
                </a:solidFill>
                <a:latin typeface="Arial Black"/>
              </a:rPr>
              <a:t>Выдел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95280" y="5445000"/>
            <a:ext cx="505116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ельные вор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Выделительная с-ма кольчатых 1"/>
          <p:cNvPicPr/>
          <p:nvPr/>
        </p:nvPicPr>
        <p:blipFill>
          <a:blip r:embed="rId1"/>
          <a:srcRect l="0" t="0" r="0" b="12774"/>
          <a:stretch/>
        </p:blipFill>
        <p:spPr>
          <a:xfrm>
            <a:off x="250920" y="1700280"/>
            <a:ext cx="8713800" cy="256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Line 5"/>
          <p:cNvSpPr/>
          <p:nvPr/>
        </p:nvSpPr>
        <p:spPr>
          <a:xfrm flipH="1" flipV="1">
            <a:off x="3708000" y="3499920"/>
            <a:ext cx="792360" cy="2016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4500720" y="3499920"/>
            <a:ext cx="1584000" cy="2016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c1f00"/>
                </a:solidFill>
                <a:latin typeface="Arial Black"/>
              </a:rPr>
              <a:t>Нервная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5084640"/>
            <a:ext cx="4402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глоточное нервное коль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Нервная с-ма кольчатых 1"/>
          <p:cNvPicPr/>
          <p:nvPr/>
        </p:nvPicPr>
        <p:blipFill>
          <a:blip r:embed="rId1"/>
          <a:srcRect l="0" t="0" r="0" b="8484"/>
          <a:stretch/>
        </p:blipFill>
        <p:spPr>
          <a:xfrm>
            <a:off x="324000" y="1341360"/>
            <a:ext cx="8569080" cy="24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Rectangle 5"/>
          <p:cNvSpPr/>
          <p:nvPr/>
        </p:nvSpPr>
        <p:spPr>
          <a:xfrm>
            <a:off x="5651640" y="494172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юш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вная цеп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 flipH="1" flipV="1">
            <a:off x="1403280" y="2852640"/>
            <a:ext cx="1008000" cy="2232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6443640" y="3068280"/>
            <a:ext cx="792360" cy="180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H="1" flipV="1">
            <a:off x="4211640" y="2997000"/>
            <a:ext cx="2232000" cy="1871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1f00"/>
                </a:solidFill>
                <a:latin typeface="Arial Black"/>
              </a:rPr>
              <a:t>Размн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3" descr="1.bmp"/>
          <p:cNvPicPr/>
          <p:nvPr/>
        </p:nvPicPr>
        <p:blipFill>
          <a:blip r:embed="rId1"/>
          <a:stretch/>
        </p:blipFill>
        <p:spPr>
          <a:xfrm>
            <a:off x="739800" y="1600200"/>
            <a:ext cx="76644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Arial"/>
              </a:rPr>
              <a:t>Роль дождевых червей в приро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уговорот веществ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разуют перегной - гумус (органическая часть почвы, богатая питательными веществами) – «хлеб» для растений (98% почвенного азота, 60% фосфора, 80% калия и др. минеральные элементы для роста растен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вено в цепи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разуют дренаж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еззараживают поч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ыхлят поч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оздают вентиляцию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дготавливают земли для роста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68360" y="317520"/>
            <a:ext cx="8218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Arial"/>
              </a:rPr>
              <a:t>Роль дождевых червей в жизни челове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. Гумусное (органическое) удоб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. БАВ (биологически активные вещества - незаменимые аминокислоты, ферменты, витамины) используются 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етеринар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армаколог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сметолог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ельском хозяйств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иотехнологических отрасл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. Корм для рыб, домашних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4. Белковая мука, консервы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5. Переработка навоза,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6. Изучение процессов реген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00"/>
                </a:solidFill>
                <a:uFillTx/>
                <a:latin typeface="Arial"/>
              </a:rPr>
              <a:t>класс МНОГОЩЕТИНКОВЫЕ</a:t>
            </a:r>
            <a:br>
              <a:rPr sz="3600"/>
            </a:br>
            <a:r>
              <a:rPr b="1" i="1" lang="ru-RU" sz="3600" spc="-1" strike="noStrike" u="sng">
                <a:solidFill>
                  <a:srgbClr val="006600"/>
                </a:solidFill>
                <a:uFillTx/>
                <a:latin typeface="Arial"/>
              </a:rPr>
              <a:t>(полихеты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щупаль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щуп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ус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гл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парапо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троение"/>
          <p:cNvPicPr/>
          <p:nvPr/>
        </p:nvPicPr>
        <p:blipFill>
          <a:blip r:embed="rId1"/>
          <a:stretch/>
        </p:blipFill>
        <p:spPr>
          <a:xfrm>
            <a:off x="522360" y="1600200"/>
            <a:ext cx="390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Многообразие Многощетинковых черв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692280"/>
            <a:ext cx="4316400" cy="30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аунк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89200" y="836280"/>
            <a:ext cx="5554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пул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880000" cy="244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664000" cy="201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2303280" cy="273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4"/>
          <a:stretch/>
        </p:blipFill>
        <p:spPr>
          <a:xfrm>
            <a:off x="3203640" y="1557360"/>
            <a:ext cx="2736720" cy="192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5"/>
          <a:srcRect l="0" t="17611" r="0" b="0"/>
          <a:stretch/>
        </p:blipFill>
        <p:spPr>
          <a:xfrm>
            <a:off x="395280" y="1197000"/>
            <a:ext cx="237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образ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щетинк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пула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е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фрод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9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3672000" cy="27604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"/>
          <p:cNvPicPr/>
          <p:nvPr/>
        </p:nvPicPr>
        <p:blipFill>
          <a:blip r:embed="rId2"/>
          <a:stretch/>
        </p:blipFill>
        <p:spPr>
          <a:xfrm>
            <a:off x="6156360" y="3645000"/>
            <a:ext cx="2190600" cy="3213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6199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5562720" y="1413000"/>
            <a:ext cx="3581280" cy="544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55627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коло 9 тыс.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битают в водной, почвенной средах; свободноживущие и эктопаразиты (пиявки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ло вытянутое, имеет головной, хвостовой отделы и туловище, состоящее из сегментов; длина тела от 0,5 мм до 3 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ицинская пия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ет гирудин, препятствующий свертыванию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дает мощными челюстями, способными прокусит к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0" t="0" r="74" b="0"/>
          <a:stretch/>
        </p:blipFill>
        <p:spPr>
          <a:xfrm>
            <a:off x="468360" y="4076640"/>
            <a:ext cx="3887640" cy="2408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5622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Трехслойные, двустороннесимметр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Кожно-мускульный мешок образован продольными, поперечными, косыми мышцами, ограничивает вторичную полость тела, заполненную жид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на каждом сегменте имеются выросты –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арапо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фрод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8" descr=""/>
          <p:cNvPicPr/>
          <p:nvPr/>
        </p:nvPicPr>
        <p:blipFill>
          <a:blip r:embed="rId1"/>
          <a:stretch/>
        </p:blipFill>
        <p:spPr>
          <a:xfrm>
            <a:off x="324000" y="3195720"/>
            <a:ext cx="4968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435560" cy="4619880"/>
          </a:xfrm>
          <a:prstGeom prst="rect">
            <a:avLst/>
          </a:prstGeom>
          <a:ln w="22320">
            <a:solidFill>
              <a:srgbClr val="800080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олость тела кольчатых чер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00"/>
                </a:solidFill>
                <a:uFillTx/>
                <a:latin typeface="Arial"/>
              </a:rPr>
              <a:t>ТИП КОЛЬЧАТЫЕ ЧЕР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Res" descr="resC4E8CF11-0A01-022A-013B-168C2D21579B"/>
          <p:cNvPicPr/>
          <p:nvPr/>
        </p:nvPicPr>
        <p:blipFill>
          <a:blip r:embed="rId1"/>
          <a:stretch/>
        </p:blipFill>
        <p:spPr>
          <a:xfrm>
            <a:off x="3419640" y="4724280"/>
            <a:ext cx="266508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Res" descr="resC4E8CF19-0A01-022A-00CB-95028B08CDEA"/>
          <p:cNvPicPr/>
          <p:nvPr/>
        </p:nvPicPr>
        <p:blipFill>
          <a:blip r:embed="rId2"/>
          <a:stretch/>
        </p:blipFill>
        <p:spPr>
          <a:xfrm>
            <a:off x="6172200" y="472428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oto2"/>
          <p:cNvPicPr/>
          <p:nvPr/>
        </p:nvPicPr>
        <p:blipFill>
          <a:blip r:embed="rId3"/>
          <a:stretch/>
        </p:blipFill>
        <p:spPr>
          <a:xfrm>
            <a:off x="380880" y="4800600"/>
            <a:ext cx="2837160" cy="17668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6300720" y="1197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788000" y="126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H="1">
            <a:off x="2339640" y="134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84360" y="1916280"/>
            <a:ext cx="28796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класс МНОГОЩЕТИН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(полих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ере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Афрод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Пескож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серп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5940360" y="191628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класс ПИЯ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429000" y="2514600"/>
            <a:ext cx="2895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МАЛОЩЕТИН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(олигох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cc33"/>
                </a:solidFill>
                <a:uFillTx/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cc33"/>
                </a:solidFill>
                <a:uFillTx/>
                <a:latin typeface="Arial"/>
              </a:rPr>
              <a:t>труб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Класс МАЛОЩЕТИНКОВЫЕ</a:t>
            </a:r>
            <a:br>
              <a:rPr sz="3200"/>
            </a:b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(олигохоты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ТИП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Кольчатые черви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ОДТИ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ясковые 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алощетинковые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ОТРЯ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ысшие олигохеты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СЕМЕЙСТВО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Люмбрициды </a:t>
            </a:r>
            <a:br>
              <a:rPr sz="2400"/>
            </a:b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И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Дождевой черв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0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Чаще всего встречаются следующие виды дождевых черв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2276280"/>
            <a:ext cx="349092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1. Дождевой червь четырёхгра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Eiseniella tetraedr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2. Дождевой червь злово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Eisenia foetid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3. Дождевой червь желтовато-зелё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Allophora chlorotica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4. Дождевой червь красноват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Lumbricus rubellu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5. Дождевой червь наземный или обыкнове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выползок) (Lumbricus terrestr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Дождевые черви"/>
          <p:cNvPicPr/>
          <p:nvPr/>
        </p:nvPicPr>
        <p:blipFill>
          <a:blip r:embed="rId1"/>
          <a:stretch/>
        </p:blipFill>
        <p:spPr>
          <a:xfrm>
            <a:off x="3564000" y="1989000"/>
            <a:ext cx="5403960" cy="40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ЭКОЛОГИЧЕСКИ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 вертикальному распределению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ждевых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ервей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в почве делят на три группы: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 поверхностно-обитающие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 том числе в компостах - Eisenia foetida, Dendroboena oktaedra, Lumbricus castaneus и др.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  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очвенно-подстилоч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Lumbricus rubellus, Eisenia nordenekioldi и др.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  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ор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Lumbricus terrestris, Dendroboena platura, обитающие в глубоких слоях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ЕРЕЧНЫЙ РАЗРЕЗ СРЕДНЕЙ ЧАСТИ ТЕЛА ДОЖДЕВОГО ЧЕРВ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6" descr="1.bmp"/>
          <p:cNvPicPr/>
          <p:nvPr/>
        </p:nvPicPr>
        <p:blipFill>
          <a:blip r:embed="rId1"/>
          <a:stretch/>
        </p:blipFill>
        <p:spPr>
          <a:xfrm>
            <a:off x="304920" y="2209680"/>
            <a:ext cx="845820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Rectangle 5"/>
          <p:cNvSpPr/>
          <p:nvPr/>
        </p:nvSpPr>
        <p:spPr>
          <a:xfrm>
            <a:off x="533520" y="1447920"/>
            <a:ext cx="9155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но-мускульный мешок состоит из кутикулы, кожного эпител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ьцевых и продольных мыш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ceum</cp:lastModifiedBy>
  <dcterms:modified xsi:type="dcterms:W3CDTF">2013-11-19T11:1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b0000000000010243100207f6000400038000</vt:lpwstr>
  </property>
  <property fmtid="{D5CDD505-2E9C-101B-9397-08002B2CF9AE}" pid="3" name="Version">
    <vt:r8>1</vt:r8>
  </property>
</Properties>
</file>