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8B8-0518-48B4-AB27-2D4B94BB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5CA-AF20-45A8-A146-C91FD6CF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85F-5424-4D9C-B760-431512C9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E07-30CC-42B6-902A-BE5FF1C3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2A25-76B4-4087-BF31-01AADD56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0592-B862-40F2-9794-5DB53FF1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53A3-40DF-4B89-A8B2-C8F9F872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F7C3-0A4D-46BC-AA63-ADE24FF3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0EB3-AD5E-4242-9C03-0871C31C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C34D-22D2-4743-9FDD-E0AF160B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D523-315E-4EB5-8E71-3F1FB836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15D-F97B-458B-98B5-38101E12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611D-F7F3-4DBC-8885-FE5EC5D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D3A8-9090-4397-8DCB-86481B24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D2E0-8023-474E-BEF1-EC2B6A72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9E4D-3A60-4ECB-A255-A4456160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8A94-0904-49B0-B625-4A84F0EF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C18-89B5-4473-99AD-F4BFD253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8D1-9A6B-432E-8410-5C70B90B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0B6-0074-4EE9-8AD5-F93259D9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F02-6916-4470-BA9A-EE2B9A8D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1A9-D490-43F8-A5D5-43F21DB7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78D-86E3-409E-B4FD-C60D5E26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8C6-AB71-42A4-92DA-ECE941DA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613200"/>
            <a:ext cx="4952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F92E-5ADA-4F49-B8C8-F9F91892D0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309A-517C-47EB-BD90-E8486B008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214560" y="475920"/>
            <a:ext cx="9358200" cy="24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istral"/>
              </a:rPr>
              <a:t>Тип</a:t>
            </a:r>
            <a:br>
              <a:rPr sz="8800"/>
            </a:br>
            <a:r>
              <a:rPr b="1" lang="ru-RU" sz="8800" spc="-1" strike="noStrike">
                <a:solidFill>
                  <a:srgbClr val="000000"/>
                </a:solidFill>
                <a:latin typeface="Mistral"/>
              </a:rPr>
              <a:t>Круглые черв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74"/>
          <p:cNvPicPr/>
          <p:nvPr/>
        </p:nvPicPr>
        <p:blipFill>
          <a:blip r:embed="rId1"/>
          <a:stretch/>
        </p:blipFill>
        <p:spPr>
          <a:xfrm>
            <a:off x="1938240" y="3621240"/>
            <a:ext cx="3975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img16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>
                <a:solidFill>
                  <a:srgbClr val="000000"/>
                </a:solidFill>
                <a:latin typeface="Arial Black"/>
              </a:rPr>
              <a:t>Общая характеристика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4c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Имеют двустороннюю сим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4c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Тело покрыто кожно-мускуль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меш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4c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Внутри – полость те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заполненная жидк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4c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2600"/>
                </a:solidFill>
                <a:latin typeface="Arial"/>
              </a:rPr>
              <a:t>Занимают все среды об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0002-002-Tip-kruglye-chervi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ИП КРУГЛЫЕ ЧЕР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285840" y="1500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ивительная стейнерия — свободноживущая морская немат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4572000" y="1500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охвостый иронус живет в наших пресных водах. Размеры 2,4–4,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85840" y="592920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фанолаймус, 0,9–1,4 мм. Обитает в наших пресных в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4857840" y="5929200"/>
            <a:ext cx="28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оидогине — паразит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1\Pictures\1.bmp"/>
          <p:cNvPicPr/>
          <p:nvPr/>
        </p:nvPicPr>
        <p:blipFill>
          <a:blip r:embed="rId1"/>
          <a:stretch/>
        </p:blipFill>
        <p:spPr>
          <a:xfrm>
            <a:off x="928800" y="2214720"/>
            <a:ext cx="2714400" cy="19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1\Pictures\2.bmp"/>
          <p:cNvPicPr/>
          <p:nvPr/>
        </p:nvPicPr>
        <p:blipFill>
          <a:blip r:embed="rId2"/>
          <a:stretch/>
        </p:blipFill>
        <p:spPr>
          <a:xfrm>
            <a:off x="5286240" y="2143080"/>
            <a:ext cx="2686320" cy="179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1\Pictures\3.bmp"/>
          <p:cNvPicPr/>
          <p:nvPr/>
        </p:nvPicPr>
        <p:blipFill>
          <a:blip r:embed="rId3"/>
          <a:stretch/>
        </p:blipFill>
        <p:spPr>
          <a:xfrm>
            <a:off x="1000080" y="4214880"/>
            <a:ext cx="2381400" cy="1697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1\Pictures\4.bmp"/>
          <p:cNvPicPr/>
          <p:nvPr/>
        </p:nvPicPr>
        <p:blipFill>
          <a:blip r:embed="rId4"/>
          <a:stretch/>
        </p:blipFill>
        <p:spPr>
          <a:xfrm>
            <a:off x="5786280" y="4286160"/>
            <a:ext cx="226224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аскарида"/>
          <p:cNvPicPr/>
          <p:nvPr/>
        </p:nvPicPr>
        <p:blipFill>
          <a:blip r:embed="rId1"/>
          <a:stretch/>
        </p:blipFill>
        <p:spPr>
          <a:xfrm>
            <a:off x="1768320" y="2273400"/>
            <a:ext cx="6077160" cy="4944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Типичным представителем паразитических круглых червей является – </a:t>
            </a: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человеческая аскар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img12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СТРОЕ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74"/>
          <p:cNvPicPr/>
          <p:nvPr/>
        </p:nvPicPr>
        <p:blipFill>
          <a:blip r:embed="rId1"/>
          <a:stretch/>
        </p:blipFill>
        <p:spPr>
          <a:xfrm>
            <a:off x="3956040" y="1401840"/>
            <a:ext cx="4902120" cy="3730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840" y="1434600"/>
            <a:ext cx="37148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нечленистое, снаружи покрытое плотной белковой оболочкой — кутикулой. Реснички иногда отсутствуют. Под кутикулой расположена гиподерма (однослойная покровная ткань), соединенная со слоем мышц. Рост сопровождается линь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СТР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5" descr="1.bmp"/>
          <p:cNvPicPr/>
          <p:nvPr/>
        </p:nvPicPr>
        <p:blipFill>
          <a:blip r:embed="rId1"/>
          <a:stretch/>
        </p:blipFill>
        <p:spPr>
          <a:xfrm>
            <a:off x="3857760" y="642960"/>
            <a:ext cx="4600440" cy="561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т на переднем конце тела. Есть анальное отверстие. Кишечник состоит из передней, средней и задней кишки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ительная система — протонефридии или кожная желе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веносной и дыхательной систем 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вная система состоит из одного или нескольких продольных нервных стволов и окологлоточного нервного коль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черви раздельнополые, реже гермафродиты. Оплодотворение чаще внутрен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ножение и разви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4" descr="1.bmp"/>
          <p:cNvPicPr/>
          <p:nvPr/>
        </p:nvPicPr>
        <p:blipFill>
          <a:blip r:embed="rId1"/>
          <a:stretch/>
        </p:blipFill>
        <p:spPr>
          <a:xfrm>
            <a:off x="3575160" y="1725480"/>
            <a:ext cx="5211720" cy="300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4200" y="1499760"/>
            <a:ext cx="3329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е черви чаще всего раздельнополы. У самцов развиты семенники, семяпроводы и семяизвергательный канал. У многих есть совокупительные органы — спикулы. Женские половые органы состоят из яичников, яйцеводов и матки. При оплодотворении самцы вводят спикулы в женское половое отверстие. Самки откладывают оплодотворенные яй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571920" y="10000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зненный цикл человеческой аск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0:36:28Z</dcterms:created>
  <dc:creator>Васильев П.А.</dc:creator>
  <dc:description/>
  <dc:language>en-US</dc:language>
  <cp:lastModifiedBy>liceum</cp:lastModifiedBy>
  <dcterms:modified xsi:type="dcterms:W3CDTF">2013-11-19T11:16:00Z</dcterms:modified>
  <cp:revision>25</cp:revision>
  <dc:subject/>
  <dc:title>Инфекционные заболевания</dc:title>
</cp:coreProperties>
</file>